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9D63-5328-4D95-8B4E-B5999531B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B312-6D78-4D52-88E2-0D42B6D1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3ABD-89E9-445A-840F-D3ECC62B0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F157-FDE0-41B4-91C3-B53565A3D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0C34-1525-4582-ABA2-399F2F67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301A-8CAC-4537-896B-7FD475DD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2D58-5CF4-4233-BEAC-8789D0C9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FC53-7933-4E1F-B6E9-D311B90B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2032-7E8B-4221-AB7D-2D3C058B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9C45-A3D7-4C8D-8B25-FB2EB647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F31F-A3D1-4823-AE74-CF7AED78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915D-79D0-400A-94A5-B7E9B6FC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91C0-84D5-4262-9B16-D9E09FD51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73600" y="2657520"/>
            <a:ext cx="1701000" cy="1275480"/>
            <a:chOff x="3873600" y="2657520"/>
            <a:chExt cx="1701000" cy="1275480"/>
          </a:xfrm>
        </p:grpSpPr>
        <p:sp>
          <p:nvSpPr>
            <p:cNvPr id="43" name="_s2079"/>
            <p:cNvSpPr/>
            <p:nvPr/>
          </p:nvSpPr>
          <p:spPr>
            <a:xfrm>
              <a:off x="3873600" y="2657520"/>
              <a:ext cx="1701000" cy="1275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uatema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7086600" y="457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4419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2819520" y="1981080"/>
            <a:ext cx="121896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066680"/>
            <a:ext cx="190512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haba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2438280" y="3200040"/>
            <a:ext cx="1447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743200"/>
            <a:ext cx="2133360" cy="9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atemal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0"/>
            <a:ext cx="198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and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5334120" y="1981080"/>
            <a:ext cx="14475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1295280"/>
            <a:ext cx="198108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o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olutionari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77240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2971800"/>
            <a:ext cx="2286000" cy="10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men help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n in the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5335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24280" y="39625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5334120"/>
            <a:ext cx="2590920" cy="1523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5486400"/>
            <a:ext cx="22096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s on export of agricultural products- cocoa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0920" y="42274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6:17:49Z</dcterms:created>
  <dc:creator>teacher</dc:creator>
  <dc:description/>
  <dc:language>en-US</dc:language>
  <cp:lastModifiedBy>teacher</cp:lastModifiedBy>
  <dcterms:modified xsi:type="dcterms:W3CDTF">2010-05-07T16:20:13Z</dcterms:modified>
  <cp:revision>3</cp:revision>
  <dc:subject/>
  <dc:title>Slide 1</dc:title>
</cp:coreProperties>
</file>